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398-AC37-4777-B1DC-00D9C43A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75B-7591-4B93-BC67-996EAC2D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65C-9B11-471C-9ED2-48D7B9DC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C7D-D325-4E9B-9566-D8F6FC80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2107-396B-4867-9B08-83AF185A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B6CB-FD41-467C-8625-D98AA0E5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F8D5-6A38-46A4-B3D8-934978D2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07DD-630A-411C-A37C-85B84D0B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102E-5EB8-41FC-8139-464A562B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1925-6F7D-4C68-B542-E3EAAA80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08FE-09BF-4A25-9750-D85DFB5A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99A-246E-435E-8006-85EAAF76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0121-6BAB-4302-A9FA-D4598D3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0A0C-1642-4951-853D-C8C27697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EC22-800D-4C81-BA35-A337326C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9432-7315-4855-B6F6-C11A3188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2BDF-2BE2-4F2F-A048-2A2A1B1A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EC8-BB07-4265-B58F-E06C33D7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839-35B3-47EA-BDDE-F34E435A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7EB-EA77-4712-A9F2-8D0FC2E8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3FD-D55E-4B90-8563-64B4454A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C32-3DE8-4B37-AC4B-EA7D925C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D59-1E69-4255-B160-7083D71E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BE0-59EF-4306-B343-E4CD06E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8F6E-5214-421C-A7BB-A035D3815B2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14D5-B468-4E66-8341-E295DDDA667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pite popular belief to the contrary, no matter how many times you tosses a coin, it has a 1:2 probability of coming up heads, even if you are extremely luck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is nothing more important than the breath of life and when a person stops breathing it is a simple fact that there is only enough oxygen in the blood and other tissues to sustain the precious gift of life for a few minu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6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be a thunderstorm.  Be specifi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wish to take this opportunity to Thank You from the bottom of my heart for taking time out of your busy and important schedule to interview a poor, struggling student like 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chel finds it difficult to speak in public despite that she faces her fear head on and auditioning for the school pl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6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could step back in time to re-live one day, what would you do differentl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ou’r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is the contraction of you are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You’re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ming tonight, aren’t you?)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our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 possessive pronoun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re you bringing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your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brother?)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If you’re not sure which is correct try substituting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ou ar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 If that sounds wrong, you know that you should use your instea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657600"/>
            <a:ext cx="8534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ill in the blanks with you’re or you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_______ son has a serious behavior problem, probably because _______ much too indulgent with him.  ______ child-rearing methods are too relaxed.  ______ making a mistake if you think ________ devil-may-care approach to parenting will work.  _____ son doesn’t respect you, and if this lack of discipline continues, _____ going to wind up bailing him out of jail one day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8:15:24Z</dcterms:created>
  <dc:creator>tpagel</dc:creator>
  <dc:description/>
  <dc:language>en-US</dc:language>
  <cp:lastModifiedBy>tpagel</cp:lastModifiedBy>
  <dcterms:modified xsi:type="dcterms:W3CDTF">2010-06-03T18:15:43Z</dcterms:modified>
  <cp:revision>1</cp:revision>
  <dc:subject/>
  <dc:title>Warm-Up Sentences</dc:title>
</cp:coreProperties>
</file>